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EC1-7D6B-4533-98E2-2B2F6D51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B9E-10F2-4DB2-8879-7EED1B6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14A-75F0-4FD5-B97F-3CE3A81E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0C4-9CFE-4943-B9E0-027F77BA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6FA-00BA-4115-BD2D-343C36D7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399-D9C2-422D-8CF9-CCABFEA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572-24C6-4E0D-8893-7E8092A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C58D-F0C8-45BB-BBDE-C3D4BD0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1F4-8293-4265-B0C7-1565B87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066-F6FB-4DC7-895B-363C1273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A4A-BF81-4E55-A533-DEC012A8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430-3398-4985-B3D0-97C46E2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CAA4-F7D2-4EB9-8649-8C81165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DE3B-23D1-42E0-84AC-E3B9A49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55F-3C4E-4903-9F3D-C690B4C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1800-8B85-44D7-9993-E1982928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DC11-939B-4CE8-8305-7E40C1BB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DC7-AFA7-40CF-9F27-A7EBAC5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78F-B308-45B5-8558-B433D64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87A-E47E-4841-AE84-7AF3C6D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E2B-9AC1-45C3-99F5-4EDF271C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751-41DD-40F9-978C-D54D9AE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C0E-2E5D-403E-AED1-29381EB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CD8-F114-4846-8B8D-4DE2E6D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752-A568-40A2-BAA4-E9BF92DF8528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047-8A68-4C89-B77E-9AE1CD8C80BA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American Literature II - Unit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Give two examples of how Horacio Quiroga’s life was b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her accidentally shot &amp; kil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acio accidentally shot and killed a close friend when looking over a g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wife killed herself because she didn’t like living in an Argentine ju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marriage ended in an unhappy s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f his kids killed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himself because he didn’t want to suffer with stomach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How did Emily and Homer me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 came to town to pave the str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at is ironic about Granny saying “Find George and be sure to tell him I forgot him.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bviously didn’t forget him if she is wanting them to tell him she forgot him 60 year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In “Recuerdo” where are the two happy and merr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ferry, out to eat, under the m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Who did Katherine Anne Porter most often write abou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women - the strain of custom and obligation they had placed on them in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Why didn’t Rhodes have to pay Butch Weld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judge claimed that Butch knew the man who made the tank explode - it was a conspiracy to get money from Rhodes (however, Butch claimed he didn’t know who did 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How is Granny jilted twi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George leaving her at the al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by God not giving her a 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What was the reason the townspeople sent for Emily’s famil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omer and her were spending a lot of time together, specifically late nights - it wasn’t right for them to be staying over when they weren’t m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What is the importance of the gray hair on the pillow in “A Rose for Emily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wed that she had been sleeping next to the body rec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What was Edna St. Vincent Millay’s most famous work (a collection of poems)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llad of the Harp W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What color was Emily’s dress in the paint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Why did Emily kill Hom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would ruin her 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he was used to getting her way - this was her way of controlling the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Who wrote “Recuerdo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na St. Vincent Mil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What is Edgar Lee Masters’ most famous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on River An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How does Fiddler Jones’ name fi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ys the f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n’t do much with his life - fiddl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are two things Granny sees at the end of her life that aren’t really ther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/someone coming in a c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sy, her dea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What did Emily do to earn some mone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China painting 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was William Faulkner’s most famous nove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bsalom, Absalo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What did Alicia start to do from the lack of blood (subdelirium of anemia)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hallucinations - ape at the bottom of her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Describe the setting of “A Rose for Emily” - 3 detai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cked leather furni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eople treated as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ets just getting pa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ro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Mindi Spear</cp:lastModifiedBy>
  <dcterms:modified xsi:type="dcterms:W3CDTF">2009-03-17T21:07:42Z</dcterms:modified>
  <cp:revision>9</cp:revision>
  <dc:subject/>
  <dc:title>Twenty Questions </dc:title>
</cp:coreProperties>
</file>